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72051-416C-479C-ADD9-04799A2A3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2E516-79A2-4437-9FF7-D82627852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A6825-E91A-4D6E-80BD-B000CD2F7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09B6F-C39B-4436-87E8-B9A60E95A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169A1-178D-44F3-B487-56071B0E2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09A76-6329-410E-9502-E62535F7E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132F3-CA9D-404E-BB10-61F94A2AB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325EA-CCF4-415C-A820-A9FE05F46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205D9-5C18-454C-AE8E-414026B62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E4C67-4140-4123-852D-2CEE7E42A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8010C-C9E6-490B-B816-AB9F59BC5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42039-FC6B-4E8F-8530-304147720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EC4B-A055-4615-A8B9-B5898D206D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627280" y="4653000"/>
            <a:ext cx="3933720" cy="131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esiunea iunie - iuli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advTm="5000">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63d18"/>
            </a:gs>
          </a:gsLst>
          <a:lin ang="54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8" descr=""/>
          <p:cNvPicPr/>
          <p:nvPr/>
        </p:nvPicPr>
        <p:blipFill>
          <a:blip r:embed="rId1"/>
          <a:stretch/>
        </p:blipFill>
        <p:spPr>
          <a:xfrm>
            <a:off x="5292720" y="1773360"/>
            <a:ext cx="3333600" cy="3333600"/>
          </a:xfrm>
          <a:prstGeom prst="rect">
            <a:avLst/>
          </a:prstGeom>
          <a:ln w="0">
            <a:noFill/>
          </a:ln>
        </p:spPr>
      </p:pic>
    </p:spTree>
  </p:cSld>
  <p:transition advTm="5000">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Tree>
  </p:cSld>
  <p:transition advTm="5000">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ws22</cp:lastModifiedBy>
  <dcterms:modified xsi:type="dcterms:W3CDTF">2012-06-18T11:06:15Z</dcterms:modified>
  <cp:revision>39</cp:revision>
  <dc:subject/>
  <dc:title>SALARIUL</dc:title>
</cp:coreProperties>
</file>